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4ED-D33D-45B7-8291-05666FFB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4B7-9949-441B-8B59-FF678D8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55AE3-94DC-450B-B278-F769B3EF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DB54-3AE6-432D-A2CB-31420D5C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0AEA8-F4ED-40DC-BCA5-B78A122B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95B1D-AC04-4F83-87CA-F828CC3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9C0B2-1BB9-440F-BC16-8B2F5E30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87D97-8E90-4115-BA02-B9C0C69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5E14-E02F-4330-9181-D5822930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9A20-E523-42C9-887F-66E42B4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2ACB-23DA-49CA-A7CB-7AB87E45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4883C-7F94-48C4-BE50-51F6CC83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D43-B343-4CDD-B3B5-71170966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AFDCD-8546-4E42-A238-5C500ED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83BC9-E837-463E-BF46-7DE9FD93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89648-8C03-46E0-B623-15E417ED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255FE-289D-4285-8F64-3C71245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55912-58AF-491E-8522-AD0EB86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0A6F7-1D28-48BA-B318-BC7D35F8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2C51D-7D39-4FC1-A50C-E2E3826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F60E0-84D8-400C-8747-93E4F4D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5F578-A5D0-4EC2-8C65-BF55EF2D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B68B0-7FD7-495B-8AB9-A67DD6E1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B52-1E12-437E-9709-6C7B39A1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6E8EF-DB24-4D6B-9445-DA2BA787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53839-ACF5-40B2-A9CE-2A7C60A2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EDC8F-0ABC-491F-A2A5-DBCD0B4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1AD1B-82C6-4277-8A0E-ED87BCEF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D3A21-1300-4199-8A6D-BE34D5D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F3CD0-3C61-4A1B-968D-545F288C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A813-6C84-45EE-8A0A-D29DAC2F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2D050-995E-4A31-8640-203591F2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74B18-FE45-403C-AECC-3FE52FC0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8749-B77C-4E21-9245-D65506F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8CDE-73CB-4299-B1CF-3A419DCC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74B98-AF3F-4C89-9B72-541693A3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73BF-5025-4CA5-B743-7373B0D6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57C01-F74D-47F2-B6BC-C91D0F09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AD616-E4D1-4B12-B013-5932329A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2E2DD-EA40-4C71-86A8-EB3338BE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4B310-E819-47E0-858B-13C6F5F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AAF38-A65D-42E9-83FA-9D701A6F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4DC5D-9F76-43C4-BC54-00A1F1AE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D5A34-F954-4F2B-9624-E1B0CD0A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155A-52C1-475D-9430-68AEE1A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C0A-2B0C-44AB-B3C1-3DA12E3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6DA8F-B2FF-4495-BF18-8C9DB0D6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03DA6-9365-4D0C-8CBC-846AC7E4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F7622-ED1C-485E-9B3A-9644138D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9A98E-93B6-487A-926C-90B6C8D2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15FF9-85CB-4247-BA7C-BDD3F6C7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A904D-3F23-45F3-A42F-F07A23D3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8F67F-5E85-4F7C-8827-78C5B5CA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8407E-5270-4462-BA09-5D3ACE2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C0D41-C0E0-47A0-A2AC-747CCF2A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48482-2CF9-42CB-940A-508FE646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435B-D95D-4472-B7AE-D60F0C3E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AC1F8-5AB0-4CB9-AABD-1B065582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CD5E8-B3DA-4DD5-BE43-4B48F6D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5ED42-AC55-4F85-8A46-9440DD8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FFC98-24F1-481B-B3BB-FD5AA05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FAFAE-3E41-4342-B4E3-73089F6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5353C-E8BC-4028-9AD2-87987894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4732C-8F65-43EE-B611-54F3AF04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94A87-7935-4241-9970-A3D34B0C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DA5A0-E946-475B-BCF5-19456C0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8D9AE-7CB7-40D7-B0C3-F37D3A50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7359-2A93-4F03-942D-FF604C7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4F63A-AE5C-4FDA-B54B-DF079043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E8781-CA87-4CFF-92CC-E23198D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D07E9-2A18-4A16-9D4E-248EB1F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94911-B3CF-407E-BE93-CB40EC3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41290-ED7F-4D93-AFCC-4E2F3CDB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00E0A-B0D3-4048-91DB-C8934C2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9E4BB-4C09-42C9-80B4-3157C7C9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EBC0D-7CE5-4330-AA11-F102D7C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E93C0-76EE-401D-8A86-3C45E15C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C964D-F08F-4720-8906-0ACB1ECE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2934-188A-49F8-BB7B-61573373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E786E-1883-43A4-98DB-075B70B1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AF818-5E6B-4C5C-BDFE-A348BD7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427C8-3172-44E5-B4A5-7BC27BC7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DD3F3-13B9-45AC-8E76-9105BDCC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1462B-169B-4399-A68A-41E7AD1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97F79-D883-4CEE-806C-26A0FE9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454D2-71BC-407B-9471-6523DC5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1E1B8-FD00-453F-A0E3-B7653A0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0F164-AEBE-42C2-AAD7-C771A183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692EB-A166-4924-A0F7-0200098A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318-CADB-4FD6-A856-9C9B7F62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21BCA-B9D0-4B12-B19D-CFC6F5F0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70B32-EF72-495F-822B-DD6D3168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9F0A6-ED87-412B-94DD-25DF65B4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95AFA-DE79-4E8F-B5F5-CF45111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75298-0D7B-4DAC-BA84-56A7D63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944F0-5FE7-46F2-94C2-D43150C8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96BA0-2598-4C3D-9917-00F29462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7C909-AC2A-4B26-BD20-1127404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1AFB2-87CB-40CC-9E77-0D5E598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680A1-36C4-4FB9-893D-A65A467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29A0-3BE8-4454-95CE-938A7A5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4C425-074A-42AC-8C5F-70B89884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8B339-7503-4091-95CD-0345D922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5B51A-8AE5-4116-920C-0A4FD1A9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CE514-10A7-4E7B-9856-C4DE4507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22F65-CF0A-4E25-B3F7-543B8E3F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FFA61-10F1-4DF4-A6AB-0DF548CA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57FEB-195A-4A5E-828D-7FC3D17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D148F-E817-44C6-B882-243087E7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B5D6D-9D75-4FC0-98DC-E45DD1A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0C192-0604-44E7-B1B8-142388E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D5C-95B6-45E8-A0D1-02522E0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647-4813-4B95-83B9-87B208A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0C8C7-57B0-4D80-8D96-EC2EDBCE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4270D-5A6F-4A19-873B-3CF99EF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F101A-73BC-4529-9E34-BA638C4C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DCE16-6106-41B9-9D8A-E6C5BA16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5299B-C64D-4E3D-A6DC-9E5D0AF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56058-3800-495E-8BAF-0C93372B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51193-81E7-4E18-A40E-2F30461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D5DA8-292F-4507-AE09-FBADB301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5A15B-D991-4313-A950-6C4881FB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1C814-DB3F-4ED0-910E-7C2CBB18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C345-04B0-444F-9526-EE60A37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A4A89-B037-498F-97CE-CE91BF5E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CC4D0-C92A-4213-8BA1-C88ADC6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2E4F5-24B2-480B-9A13-58922DC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21828-47E5-4225-A7EA-44C259C2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8ED64-D347-41F4-9DAB-7C09925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B0510-2C66-4BB0-B1A1-674EB3F1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057D6-1ADD-448E-AF05-E347C4E8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9A894-39AA-4D7D-9705-E2A534DF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7A33D-5D9E-42FF-A369-FDE42A2E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B1BAF-3EB0-49F6-866D-A0B89AD2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CD1-C873-4766-AAC6-15F8E4FE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3F0AB-E110-432A-ADED-F9D21BAF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C81FA-0E64-41EE-A27F-EDD2853B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A6EE4-EC23-4CBD-92A3-F0C6CC3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51721-8DF5-44A0-9A61-314A7A6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E1F11-5AB8-4DA2-ABCD-12E5B47D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BF7B0-C473-4B10-BFAD-7E51C33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8CABD-DE34-41EB-9959-08C3153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8DBF9-D8FD-4FAC-8CC7-10D6E59F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35777-0232-4C80-BCC6-D92E5FF0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909C3-8B1A-4DA6-88CD-201EF002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6CDB-FDF9-4310-98E0-92DCC1B2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F045F-79CB-42EA-9ACA-CEEDB899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333D2-24F0-4795-9823-4C390FCC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1C773-5AA9-4F7D-B972-A60D5663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16B82-2FD2-404D-809B-0817B00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16215-74F7-496E-BFC6-B7F5195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12670-4A43-4C10-A0BB-7136015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C5708-A2AE-40E7-9F26-88E06A5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BDA81-7323-4307-BB19-7547722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8C3BE-D706-4294-ADCF-098D33E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CFABF-1467-4B22-BFBF-6741B1E4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EA14-AD52-460B-B5BB-68035929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B4053-1497-42A3-930F-2813C065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43D7B-FAEA-4018-BC4A-0E8BF755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EDB08-170F-47FE-85D1-9EDEF77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128C0-92CC-44A9-B47D-FE228D3B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2477A-AC12-494B-A80B-8E09E98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0381D-E24E-43C1-BE33-B7953F59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2F555-AE03-40FF-8D9C-33F013F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35123-C5B0-409F-99DD-C29630C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5C8E1-C740-4131-89BE-51D5324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33042-3123-47BC-9B9D-AA394BE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4D6A-2807-4EE9-B1A7-B014333B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97C32A-1DB3-4D2C-8C95-F2B2AA5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5A9A1-5713-4B3C-9A0B-954CA80A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9FD1C-131C-44DE-8AA4-A3A466F3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709B-F4DC-43D1-B9F4-FAEDAEA7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881E-B571-4F86-A08B-837F519F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9399-95CE-45D5-A09F-291E5613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A80D-0946-45E4-B499-4023FC45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122-E95A-4AD0-8AFA-0A5C3AC4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5B96-E6C5-4A9C-B6A9-E57B818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319B-87D8-48B9-8F0A-12524ED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8162-806C-47BF-8E28-C10B1D9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966B-B394-4C93-A64F-1B33FFA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B029-16B5-4458-AFCE-2C52FB4D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3927-95F4-4D11-96B7-8F74FC32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D0A5-D389-401D-B5FF-FACDDC73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31990-45A1-4CB5-BC77-F36B0CAE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F9F3C-9C5D-4DFD-A383-FEE87B08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704A-BCE9-4A7D-94AF-DF13A11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845-9242-4AC6-8FEE-CD57E08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079A-FC0D-46F3-9E2F-DD03CD1A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9151-DF0D-4C02-9B32-9459B663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AD14-DAA7-4DF3-9078-CF381721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F2A3-2FD3-4FDB-862E-D8D1B78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7E6B-D75C-44C1-BA41-F6D24650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B168-44D9-487D-949B-1765D8E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DC22-D9E1-4D32-9A40-AEDC641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77B1-DA8B-45AA-92DA-28BB46D9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7C75-E332-4F27-85FF-2F37231A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2D88-432C-42A2-A02E-F9A9F9FF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D94-271C-402D-BB6C-454606C3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EC67-639D-43BE-A832-EC9D4AED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C8551-5FB7-438F-B5B1-77C37511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81C8-3BBB-44A7-A81B-C22FB6C3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61C9F-0C0A-46E6-BA20-001698CD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2849-2D96-4A20-9A48-8A7E46DD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253B-BE9F-48C2-A2EE-DD5F8B7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0451B-D74A-4E7F-AB04-EC333E4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A1EE-37FF-49A5-B91F-D05CE5D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54DA-CFC9-46C5-90F0-FB8B9632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3EC1-0EC8-49EB-ACDF-7044A0ED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9A5-969C-4DAA-8B7C-73E74BB6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C151-951D-4FE9-A655-15CF59E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D900-F6C2-47E0-99FA-72C8D023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60C7-E50E-465A-B902-8BD71C65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618B-6DBD-4E7F-8899-D3385D7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31EB-E131-4AFA-8470-65FE479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15D6-E0AF-4DA5-B695-B80DE556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F656-0647-4F22-88A7-9979FC0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2860-1E76-437A-A26F-1A4DBBB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5289-7EDC-44EC-9DDC-353518A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C241-068C-4533-B712-7C4134E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0BB-BABB-4815-8023-F7D8EA6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7964-B1BD-4EE5-8AFD-A0C1740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4E20-2A0E-4DE7-82B0-F5D71EF3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B5B2-6BBB-40CB-855A-53D0B61F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4A72-F540-4D59-A2EE-204A6266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99AA-C463-4253-81E9-99C150B6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65EBE-E8B0-493F-A8E4-7482619C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0822-4D3E-4221-9507-8DC1473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AFC0-C5C2-4BF9-9175-74455C5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B899-DFE7-4D78-95CB-4EDE4C8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6CA9-7019-4725-8472-643BB6A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1FE-5807-4C78-848D-9F0AA3B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AF10F-46F6-457F-8C9C-BE5148D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07492-46F9-4CDA-8764-D40FA60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1362-CBD6-43E5-9591-98F34F9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59EB9-EE2A-4FF1-B999-F12FBEBF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B0B79-DBD6-402A-8BB2-AF912AEC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343B6-E822-4839-9DC0-403B82AC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E483-95E6-40A6-A8D1-C199212F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85D9-7493-44F3-B44A-B5D16E29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22A55-F058-4731-A45D-487F801F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D23B-E156-4B92-BB8E-3BF920B2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004-B2EB-4CE8-9D03-D02EDCD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D0A5-C1CD-4B4F-881C-A23B14E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F246-1423-4E6C-881B-9FAE29E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D658B-40AF-49B2-A60E-2C56FC26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F5AD7-4EF5-4567-ADE0-B10BDC6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DE27-023A-4A89-A32E-08D39F5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26308-D349-4F23-A759-0993306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2EB04-18A3-4598-9E91-FF334064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13E32-55D7-46FC-AADF-0CD98DFA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1E402-5520-484E-9596-B8D11EF5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2799D-B3F2-4483-A31D-AFD14DBF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F5B-8ACC-4C03-8123-5E5C5CD6E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2A45-A4E4-4A1B-8735-D3536A6559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E18-B45D-4BCC-9B68-B76FBA110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D03-AF1D-4EBF-BF08-C49B27113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CAE-2DEB-42ED-8985-F792F78A9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23AD-73A3-4201-854D-41A0D5ACB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958-CB46-4D93-A86F-1FEE29858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0CBC-25A5-4143-BE1F-FE66066C0B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BC7-031F-4D67-848D-9C03806981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7456-507D-4911-B78B-2A747C12B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593-FFC3-4688-8EA0-00FF96EC0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0476-8198-4C40-9B5B-4C6B369D2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942-3C6A-4BB5-BBF9-D8BB395BA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D74-C786-4E0A-92B5-08ED28B37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39A-E03D-452A-96F2-CD304E320F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1DB-B3E9-4FF6-B3A2-2E2354454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133-4ED7-4955-BF01-3DA40DD73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9CC-10F6-40EF-B4DA-73B4BAA41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3697-4DD1-4AC9-9032-36ECC60AF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C608-5501-4811-88DD-205ABC91A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AED4-9D13-43A7-B216-96FB412CA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F92-1BFB-4434-A592-2CA2619A09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192-390E-4282-98F1-212D84A2A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4C8-AB76-47FF-BD48-0F9DFD453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0A65-CB7C-4D1F-BE77-901B3D366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95BB-E926-462D-87F5-6CA9520BB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08D-B04F-4418-8907-7D2227715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036-E73C-4B29-8FB6-C54C2933B8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D43E-59BE-4E37-9AA6-42973C7A2F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2A8F-CE05-46C6-A4A4-28D2A21A5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194-1562-4618-BFED-D983B66A6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28BA-1F7D-4FB2-A823-34DD48504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463F-791D-4228-B328-978F01B94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7E43-3B88-4101-A533-8FDF36365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FCC-537C-46D2-8CB0-49BC28569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0BB-4579-438B-9684-055FACBF0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7691-763D-4C44-8B69-A2DD66CBF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83B4-2875-44AF-8519-27396826DA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4F33-1069-4A66-A1CC-2DB869C46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66BC-7C74-4696-B653-6F0D76834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04920" y="3057480"/>
            <a:ext cx="6734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2231" descr=""/>
          <p:cNvPicPr/>
          <p:nvPr/>
        </p:nvPicPr>
        <p:blipFill>
          <a:blip r:embed="rId1"/>
          <a:stretch/>
        </p:blipFill>
        <p:spPr>
          <a:xfrm>
            <a:off x="480960" y="1433520"/>
            <a:ext cx="8182080" cy="3990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042920" y="2335320"/>
            <a:ext cx="4465800" cy="506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446580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826920" y="3889440"/>
            <a:ext cx="446580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826920" y="4695840"/>
            <a:ext cx="7129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4000" y="923760"/>
            <a:ext cx="8496000" cy="5600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79640" y="3933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427640" y="3933720"/>
            <a:ext cx="86508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616800" y="5153040"/>
            <a:ext cx="504720" cy="395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551560" y="5661000"/>
            <a:ext cx="7491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66720" y="847800"/>
            <a:ext cx="7810560" cy="553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156360" y="250668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2" descr=""/>
          <p:cNvPicPr/>
          <p:nvPr/>
        </p:nvPicPr>
        <p:blipFill>
          <a:blip r:embed="rId3"/>
          <a:stretch/>
        </p:blipFill>
        <p:spPr>
          <a:xfrm>
            <a:off x="1100160" y="2735280"/>
            <a:ext cx="3162240" cy="2590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056280" y="3357720"/>
            <a:ext cx="792360" cy="50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997600" y="414972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6012000" y="5013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6286680" y="5877000"/>
            <a:ext cx="792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6801" descr=""/>
          <p:cNvPicPr/>
          <p:nvPr/>
        </p:nvPicPr>
        <p:blipFill>
          <a:blip r:embed="rId1"/>
          <a:stretch/>
        </p:blipFill>
        <p:spPr>
          <a:xfrm>
            <a:off x="614520" y="1066680"/>
            <a:ext cx="7914960" cy="4724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780000" y="31989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5321160" y="462456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5796000" y="505620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666720" y="561960"/>
            <a:ext cx="7810560" cy="5734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547640" y="3241800"/>
            <a:ext cx="863640" cy="506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635280" y="322740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651640" y="322740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7250040" y="427824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3030480" y="5186520"/>
            <a:ext cx="820800" cy="360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3419640" y="5703840"/>
            <a:ext cx="820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252360" y="771480"/>
            <a:ext cx="8639280" cy="5753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211640" y="2406600"/>
            <a:ext cx="410544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3995640" y="3213000"/>
            <a:ext cx="410544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356000" y="4941720"/>
            <a:ext cx="4464000" cy="506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197240" y="5748480"/>
            <a:ext cx="4464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5" descr=""/>
          <p:cNvPicPr/>
          <p:nvPr/>
        </p:nvPicPr>
        <p:blipFill>
          <a:blip r:embed="rId1"/>
          <a:stretch/>
        </p:blipFill>
        <p:spPr>
          <a:xfrm>
            <a:off x="347760" y="990720"/>
            <a:ext cx="8448480" cy="4876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6084720" y="479736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6327" descr=""/>
          <p:cNvPicPr/>
          <p:nvPr/>
        </p:nvPicPr>
        <p:blipFill>
          <a:blip r:embed="rId3"/>
          <a:stretch/>
        </p:blipFill>
        <p:spPr>
          <a:xfrm>
            <a:off x="5810400" y="2103480"/>
            <a:ext cx="1180800" cy="124776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6328" descr=""/>
          <p:cNvPicPr/>
          <p:nvPr/>
        </p:nvPicPr>
        <p:blipFill>
          <a:blip r:embed="rId4"/>
          <a:stretch/>
        </p:blipFill>
        <p:spPr>
          <a:xfrm>
            <a:off x="7337520" y="2217600"/>
            <a:ext cx="1199880" cy="1019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596360" y="479736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814320" y="1362240"/>
            <a:ext cx="7515360" cy="4133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5651640" y="233532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5292720" y="3948120"/>
            <a:ext cx="1295280" cy="1352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164360" y="2349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804000" y="3933720"/>
            <a:ext cx="1295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4276" descr=""/>
          <p:cNvPicPr/>
          <p:nvPr/>
        </p:nvPicPr>
        <p:blipFill>
          <a:blip r:embed="rId1"/>
          <a:stretch/>
        </p:blipFill>
        <p:spPr>
          <a:xfrm>
            <a:off x="595440" y="1957320"/>
            <a:ext cx="7953120" cy="2943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6300720" y="273672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1403280" y="4307040"/>
            <a:ext cx="30974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4:2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